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BD0-FEFB-4D0C-B8F5-69D11136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A69-59D1-4E00-8E2A-6F63C26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DE7-30FA-417B-BB78-7FD37447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55C-1D4C-425A-B741-BE9D300F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E4E-8408-4EBC-B04B-E6491ED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8CE-E2C5-4542-A5B6-2AB518E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37-4621-4B12-A7E7-0CCF49D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1AC-4E57-4876-91B8-AA22FCD0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AFF-FEF7-434B-864B-78A6EA9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CB6-9092-4C14-A68C-2B02076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C0A-B623-48AA-9C8E-D84D7B1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463-2830-42B5-BC87-204D1DE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AF4-7016-489C-B18F-56C16E3A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504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333399"/>
              </a:solidFill>
              <a:latin typeface="Niagara Soli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175248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uhaus 93"/>
              </a:rPr>
              <a:t>Water Cycle</a:t>
            </a:r>
            <a:endParaRPr b="1" lang="en-US" sz="6000" spc="1" strike="noStrike">
              <a:ln w="12600">
                <a:solidFill>
                  <a:srgbClr val="0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nd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s the water vapor rises, it cools off and ______________________ into water _________________. If the water vapor becomes extremely cold, it will form ice ________________ instead of water droplets. As the water droplets or ice crystals grow bigger and more numerous, they form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62485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f water droplets or ice crystals become too _______________, they can’t stay in the air. They _________________. Water droplets precipitate as ________________ and ice crystals precipitate as _________________. Sometimes, the rain freezes before it hits the earth and precipitates as 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219320"/>
            <a:ext cx="624852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Run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is precipitation gathers into ________________ and _________________ that flow down to the lakes and oceans. This is called __________________. Not all of the water makes it back to the oceans and lakes right away. Some of it is used by animals and ________________. Some is frozen into ___________________. Eventually, the animals and plants breathe the water out and the glaciers melt, releasing the water back into the water __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6248520" cy="862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c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find water in many places and in many forms. Water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8 of these water words.  Create a story, poem or song using the words you sel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43400" y="1447920"/>
          <a:ext cx="4267080" cy="4516200"/>
        </p:xfrm>
        <a:graphic>
          <a:graphicData uri="http://schemas.openxmlformats.org/drawingml/2006/table">
            <a:tbl>
              <a:tblPr/>
              <a:tblGrid>
                <a:gridCol w="1574640"/>
                <a:gridCol w="1346400"/>
                <a:gridCol w="1346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e cu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d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H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Glac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Icebe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water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T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iner Hand ITC"/>
                        </a:rPr>
                        <a:t>sw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200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5 ways you use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47680" y="1004760"/>
            <a:ext cx="4768920" cy="5301360"/>
            <a:chOff x="3847680" y="1004760"/>
            <a:chExt cx="4768920" cy="5301360"/>
          </a:xfrm>
        </p:grpSpPr>
        <p:sp>
          <p:nvSpPr>
            <p:cNvPr id="47" name="_s34828"/>
            <p:cNvSpPr/>
            <p:nvPr/>
          </p:nvSpPr>
          <p:spPr>
            <a:xfrm flipH="1" flipV="1">
              <a:off x="5085720" y="2993400"/>
              <a:ext cx="57276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4827"/>
            <p:cNvSpPr/>
            <p:nvPr/>
          </p:nvSpPr>
          <p:spPr>
            <a:xfrm>
              <a:off x="3847680" y="1996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4826"/>
            <p:cNvSpPr/>
            <p:nvPr/>
          </p:nvSpPr>
          <p:spPr>
            <a:xfrm flipH="1">
              <a:off x="5085720" y="398592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4825"/>
            <p:cNvSpPr/>
            <p:nvPr/>
          </p:nvSpPr>
          <p:spPr>
            <a:xfrm>
              <a:off x="3847680" y="3985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4836"/>
            <p:cNvSpPr/>
            <p:nvPr/>
          </p:nvSpPr>
          <p:spPr>
            <a:xfrm>
              <a:off x="6232320" y="431748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4835"/>
            <p:cNvSpPr/>
            <p:nvPr/>
          </p:nvSpPr>
          <p:spPr>
            <a:xfrm>
              <a:off x="5569560" y="4980240"/>
              <a:ext cx="1325160" cy="1325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4834"/>
            <p:cNvSpPr/>
            <p:nvPr/>
          </p:nvSpPr>
          <p:spPr>
            <a:xfrm>
              <a:off x="6805440" y="398592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4833"/>
            <p:cNvSpPr/>
            <p:nvPr/>
          </p:nvSpPr>
          <p:spPr>
            <a:xfrm>
              <a:off x="7291080" y="3985920"/>
              <a:ext cx="132552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4832"/>
            <p:cNvSpPr/>
            <p:nvPr/>
          </p:nvSpPr>
          <p:spPr>
            <a:xfrm flipV="1">
              <a:off x="6805440" y="2993760"/>
              <a:ext cx="57276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4831"/>
            <p:cNvSpPr/>
            <p:nvPr/>
          </p:nvSpPr>
          <p:spPr>
            <a:xfrm>
              <a:off x="7291080" y="1999080"/>
              <a:ext cx="1325520" cy="1325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4824"/>
            <p:cNvSpPr/>
            <p:nvPr/>
          </p:nvSpPr>
          <p:spPr>
            <a:xfrm flipV="1">
              <a:off x="6232320" y="2330280"/>
              <a:ext cx="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4823"/>
            <p:cNvSpPr/>
            <p:nvPr/>
          </p:nvSpPr>
          <p:spPr>
            <a:xfrm>
              <a:off x="5569560" y="1004760"/>
              <a:ext cx="132516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brush tee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4822"/>
            <p:cNvSpPr/>
            <p:nvPr/>
          </p:nvSpPr>
          <p:spPr>
            <a:xfrm>
              <a:off x="5569560" y="2993760"/>
              <a:ext cx="1325160" cy="1325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ys 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use wa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6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-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that happens again and a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hange from liquid to g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hange from gas to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ain, snow, sleet, or h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iration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water given off by plants and 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water that stays above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if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derground water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 the term and its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447920"/>
          <a:ext cx="8534520" cy="4760640"/>
        </p:xfrm>
        <a:graphic>
          <a:graphicData uri="http://schemas.openxmlformats.org/drawingml/2006/table">
            <a:tbl>
              <a:tblPr/>
              <a:tblGrid>
                <a:gridCol w="2900520"/>
                <a:gridCol w="563400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Cyc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hange from gas to liqu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hange from liquid to g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something that happens again and ag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Water given off by living th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i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Water that stays above grou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Rain, snow, sleet, h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if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Underground water sou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 diagram of the water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5095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something that happens over and over again.  Many materials cycle through nature.  Water moves through a cyc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po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ppens when the sun warms the water.  The water changes to water vapor and goes into the air.  Most evaporation is from the ocea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ppens when the water vapor cools.  Tiny droplets of water in the air form cloud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e droplets become large enough, they fall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cipit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usually rain or snow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water goes into the ground.  It becomes groundwa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water goes into streams, rivers and lakes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of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2 kinds of precipi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evap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cess happens after evap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emperature important in the water cyc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6572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48520" y="1371600"/>
            <a:ext cx="2438280" cy="4397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terms to label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276720"/>
            <a:ext cx="1524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94400">
            <a:off x="2812680" y="4113000"/>
            <a:ext cx="2514600" cy="4572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283000">
            <a:off x="2665440" y="2368440"/>
            <a:ext cx="2260440" cy="4510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60800">
            <a:off x="444240" y="2356920"/>
            <a:ext cx="2070000" cy="4572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432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9718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2004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283000">
            <a:off x="1752480" y="4876560"/>
            <a:ext cx="1176480" cy="3697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va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n a warm, sunny day, water in a glass of water seems to slowly disappear. This is because the energy from the sun is _______________ the water up and turning the liquid water into water ______________. This process is called ___________________. When the water evaporates, it becomes an invisible gas in the _____________________. Evaporation takes places all over the earth, but especially in the ________________ and ________________ where there is lots of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990720"/>
            <a:ext cx="5181480" cy="862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137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25:31Z</dcterms:created>
  <dc:creator>SGANSK</dc:creator>
  <dc:description/>
  <dc:language>en-US</dc:language>
  <cp:lastModifiedBy>SGANSK</cp:lastModifiedBy>
  <dcterms:modified xsi:type="dcterms:W3CDTF">2008-06-26T17:11:58Z</dcterms:modified>
  <cp:revision>12</cp:revision>
  <dc:subject/>
  <dc:title>Slide 1</dc:title>
</cp:coreProperties>
</file>